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160-2B91-4BF2-9BE5-19EDEECB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E07-52C8-49DE-B38C-75D7EFE4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F3F-7FC7-421B-8089-D50F3276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1CC-427C-4323-9AE4-8F47FCB1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6E8D-94F5-46FA-8468-E0CA299F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5CF8-3D2B-4FBF-ADB7-0099A3D8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A23D-A0C2-45F0-973A-3FAA3FA7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9B67-C19F-4893-B36F-2CB9F249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057A-7B65-422E-94B5-2967A561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2FFB-BED1-4E2C-9AD5-7599B8D4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E7B9-5020-4D5D-8C0E-2B31902F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716-CA13-4A06-A53C-DDC16B33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2496-5B40-43B0-8E19-8DDF913E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7828-F663-4976-ABE1-8C9DC73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D1FD-ABB7-4194-8590-55505FC1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240E-734B-4A60-BB25-7C35644B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BC1D-90E4-4B91-9BC1-A28226E9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E0C-3C9A-4C9D-8022-09BBC9E4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101-011E-429F-B9AF-579F4A04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6D1-183E-41CB-9E4E-33DD835B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4EA-41F9-4C99-AE4A-D8644271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7C4-FC43-4B55-8FA4-CA83B91E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8DD-CF32-4709-9612-A233662B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1FB-37A6-4FDD-BA95-680EE87A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C6AE-88F5-4CFB-BC24-4FC0B840F0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7411-20DF-48D8-9BA4-80A7ACC622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Latitude and Longitu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earth is divided into lots of lines called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titud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ongitud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5" descr="Parallels of Lattitude"/>
          <p:cNvPicPr/>
          <p:nvPr/>
        </p:nvPicPr>
        <p:blipFill>
          <a:blip r:embed="rId1"/>
          <a:stretch/>
        </p:blipFill>
        <p:spPr>
          <a:xfrm>
            <a:off x="838080" y="2666880"/>
            <a:ext cx="4343400" cy="3705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Meridians of Longitude"/>
          <p:cNvPicPr/>
          <p:nvPr/>
        </p:nvPicPr>
        <p:blipFill>
          <a:blip r:embed="rId2"/>
          <a:stretch/>
        </p:blipFill>
        <p:spPr>
          <a:xfrm>
            <a:off x="6324480" y="2590920"/>
            <a:ext cx="2541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Lin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ngitude lines run north and sout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atitude lines run east and west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lines measure distances in degree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5" descr="1"/>
          <p:cNvPicPr/>
          <p:nvPr/>
        </p:nvPicPr>
        <p:blipFill>
          <a:blip r:embed="rId1"/>
          <a:stretch/>
        </p:blipFill>
        <p:spPr>
          <a:xfrm>
            <a:off x="3429000" y="3581280"/>
            <a:ext cx="2863800" cy="297180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8"/>
          <p:cNvSpPr/>
          <p:nvPr/>
        </p:nvSpPr>
        <p:spPr>
          <a:xfrm>
            <a:off x="6019920" y="4724280"/>
            <a:ext cx="2819160" cy="838440"/>
          </a:xfrm>
          <a:prstGeom prst="leftArrow">
            <a:avLst>
              <a:gd name="adj1" fmla="val 50000"/>
              <a:gd name="adj2" fmla="val 8406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itu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838080" y="5181480"/>
            <a:ext cx="2971800" cy="838440"/>
          </a:xfrm>
          <a:prstGeom prst="rightArrow">
            <a:avLst>
              <a:gd name="adj1" fmla="val 50000"/>
              <a:gd name="adj2" fmla="val 88611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ngitu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Where is 0 degre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quato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s 0 degree latitud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 is an imaginary belt that runs halfway point between the North Pole and the South Pol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6" descr="equator"/>
          <p:cNvPicPr/>
          <p:nvPr/>
        </p:nvPicPr>
        <p:blipFill>
          <a:blip r:embed="rId1"/>
          <a:stretch/>
        </p:blipFill>
        <p:spPr>
          <a:xfrm>
            <a:off x="4038480" y="40384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7"/>
          <p:cNvSpPr/>
          <p:nvPr/>
        </p:nvSpPr>
        <p:spPr>
          <a:xfrm>
            <a:off x="533520" y="4343400"/>
            <a:ext cx="3504960" cy="1981080"/>
          </a:xfrm>
          <a:prstGeom prst="rightArrow">
            <a:avLst>
              <a:gd name="adj1" fmla="val 50000"/>
              <a:gd name="adj2" fmla="val 4423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quat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is 0 degre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ime meridi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0 degrees longitude.  This imaginary line runs through the United Kingdom, France, Spain, western Africa, and Antarct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Picture 5" descr="MP00012_"/>
          <p:cNvPicPr/>
          <p:nvPr/>
        </p:nvPicPr>
        <p:blipFill>
          <a:blip r:embed="rId1"/>
          <a:stretch/>
        </p:blipFill>
        <p:spPr>
          <a:xfrm>
            <a:off x="3733920" y="3962520"/>
            <a:ext cx="2565360" cy="259056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9"/>
          <p:cNvGrpSpPr/>
          <p:nvPr/>
        </p:nvGrpSpPr>
        <p:grpSpPr>
          <a:xfrm>
            <a:off x="3657600" y="0"/>
            <a:ext cx="2743200" cy="4038480"/>
            <a:chOff x="3657600" y="0"/>
            <a:chExt cx="2743200" cy="4038480"/>
          </a:xfrm>
        </p:grpSpPr>
        <p:sp>
          <p:nvSpPr>
            <p:cNvPr id="401" name="AutoShape 6"/>
            <p:cNvSpPr/>
            <p:nvPr/>
          </p:nvSpPr>
          <p:spPr>
            <a:xfrm>
              <a:off x="3657600" y="0"/>
              <a:ext cx="2743200" cy="4038480"/>
            </a:xfrm>
            <a:prstGeom prst="downArrow">
              <a:avLst>
                <a:gd name="adj1" fmla="val 50000"/>
                <a:gd name="adj2" fmla="val 3680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Text Box 7"/>
            <p:cNvSpPr/>
            <p:nvPr/>
          </p:nvSpPr>
          <p:spPr>
            <a:xfrm>
              <a:off x="4572000" y="0"/>
              <a:ext cx="457200" cy="37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Text Box 8"/>
            <p:cNvSpPr/>
            <p:nvPr/>
          </p:nvSpPr>
          <p:spPr>
            <a:xfrm>
              <a:off x="5105520" y="0"/>
              <a:ext cx="761760" cy="35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Picture 5" descr="World"/>
          <p:cNvPicPr/>
          <p:nvPr/>
        </p:nvPicPr>
        <p:blipFill>
          <a:blip r:embed="rId1"/>
          <a:stretch/>
        </p:blipFill>
        <p:spPr>
          <a:xfrm>
            <a:off x="0" y="498600"/>
            <a:ext cx="9144000" cy="58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atitude and Longitude Resour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itude &amp; Longitude Activ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Printable Latitude &amp; Longitude Map of the Worl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itude &amp; Longitude Map Mak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itude and Longitude Quiz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5:49:11Z</dcterms:created>
  <dc:creator>Connie Campbell</dc:creator>
  <dc:description/>
  <dc:language>en-US</dc:language>
  <cp:lastModifiedBy>Erryn Garnett</cp:lastModifiedBy>
  <dcterms:modified xsi:type="dcterms:W3CDTF">2011-07-30T13:26:31Z</dcterms:modified>
  <cp:revision>8</cp:revision>
  <dc:subject/>
  <dc:title>Reading Maps</dc:title>
</cp:coreProperties>
</file>